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2F27-F6A8-4DA9-B32F-31189C612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66D0-428B-4E0D-BB04-A19D1327E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909-0993-45DC-A4AB-32C00D0E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338-6E94-4E81-AADC-59F917C5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52E-E2A6-4A8A-87A7-AAD0C7B0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C81-BB82-44D9-88D3-CF316363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92A0-E77A-44A8-A99C-A3608CC5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7073-5286-4654-86C8-AF6F46DB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A032-6005-414F-8A79-16E67BA8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0D18-A298-4072-803B-663BDBBF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AB30-26FE-4D27-A92E-E366E7DE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01C7-7803-4FB3-9018-8B7E5D0C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AACB-E68C-4764-81F3-7DFAEF3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65B-6C44-42EF-9356-155121F4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693D-CED6-43E1-AAF0-BE18E0B4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FCC0-D938-44A1-822D-22BD45B6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138A-0706-4859-B854-A3453890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F7A0-CFE8-40AB-80E1-2EA17328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E405-B561-4478-84EC-6642C7F2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32D8-24CC-47BF-A0D0-CFAA8926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046B-03EF-4423-83AA-6140E4B6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A6C9-3522-46E4-BE39-6B62A4FC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58CB-0496-4741-8C71-BEA776A3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09E4-AD73-4071-8C52-80891B06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A1E-AE33-4B6B-955B-00D458C6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938E-D87F-47E3-B518-69EBFFA8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4307-933C-4DF3-A411-C001800A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1B64-EB0A-4E05-A01B-A3C8A5E0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DF71-285B-4813-99FA-DA450B7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9B48-E50D-436C-9B40-1FE3F96E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42E4-71E3-44DB-86C6-DC317371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C9EF-6F83-4C7F-A0D3-DD0847EC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99E6-E50C-4AF9-932C-D1280DCE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06CAA-4047-49DA-B160-06DF890B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253F-80C9-4064-9614-EA7E00C8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7CE-A982-4922-8E41-4C3EF332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62BF-F7E5-47A8-98AF-FB2EC84B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EE22E-EB02-4A7E-BEBC-EF6364B1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4BFF5-F72E-4B55-98A3-10E86684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B80C7-AB73-4922-968F-1CB9D71A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2502F-DBCE-4D3C-85D6-CEBB9D92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81A1A-502C-434D-93C8-87D14EAA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3D2C-1D4C-48B1-8532-DEFAC65F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DBB03-0BAF-490F-9579-273A124B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5B5D-705C-48D2-A3FE-8D69B118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EF5-B01E-4873-BCCE-C996B7E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B63-C847-4EB1-A882-FEB77E0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771-E5AF-4F8E-8282-D9D9C2B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439-8C26-4843-9E36-333DA3C7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4B8-0BF6-4D02-A765-75857094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902D-A6D7-4AA3-A2E9-FB9DB9278B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6598-CF95-452A-A55D-7A577B250F4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1D7E-93BA-4520-83EF-E6647516DCB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8040-B9C5-41CE-B8EF-0D9E88819CD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sites.google.com/a/maine207.org/biology/u2_dna_gene/u2_videos_animation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20574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2d700"/>
                </a:solidFill>
                <a:latin typeface="Arial"/>
                <a:ea typeface="Arial"/>
              </a:rPr>
              <a:t>СИНТЕЗА ПРОТЕИНА- ТРАНСКРИП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2" descr=""/>
          <p:cNvPicPr/>
          <p:nvPr/>
        </p:nvPicPr>
        <p:blipFill>
          <a:blip r:embed="rId1"/>
          <a:stretch/>
        </p:blipFill>
        <p:spPr>
          <a:xfrm>
            <a:off x="685800" y="2722680"/>
            <a:ext cx="3106800" cy="3396960"/>
          </a:xfrm>
          <a:prstGeom prst="rect">
            <a:avLst/>
          </a:prstGeom>
          <a:ln w="0">
            <a:noFill/>
          </a:ln>
        </p:spPr>
      </p:pic>
      <p:pic>
        <p:nvPicPr>
          <p:cNvPr id="225" name="Content Placeholder 5" descr=""/>
          <p:cNvPicPr/>
          <p:nvPr/>
        </p:nvPicPr>
        <p:blipFill>
          <a:blip r:embed="rId2"/>
          <a:stretch/>
        </p:blipFill>
        <p:spPr>
          <a:xfrm>
            <a:off x="4952880" y="2556000"/>
            <a:ext cx="3364200" cy="37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525600" y="1104840"/>
            <a:ext cx="8466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рмин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ом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ћу протеина терминације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ho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факт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самотермин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Новостворена иРНК није стабилна и биолошки функционал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транскрибовања и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атке секвен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дификованих нуклеотида назване </a:t>
            </a:r>
            <a:r>
              <a:rPr b="0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CA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 додају на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5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рај помоћу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7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mG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логу у повезивању иРНК за рибозо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 терминације на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рај и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специјална полимераза додаје  око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2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уклеотида аден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формирајући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poly 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ре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 улогу у изласку и даљој обради зреле и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Eukaryotic posttranscriptional process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нимација транскрип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sites.google.com/a/maine207.org/biology/u2_dna_gene/u2_videos_anim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 је п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роцес преписивањ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не секвенце ДНК на РНК (иРНК, тРНК, рРН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двија се </a:t>
            </a:r>
            <a:r>
              <a:rPr b="0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у једр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 код еукариота  је слич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и код прокарио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а разлике су следећ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оне јединице су моноцистронск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695840" y="2286000"/>
            <a:ext cx="4457520" cy="2757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rcRect l="23047" t="23440" r="6640" b="7510"/>
          <a:stretch/>
        </p:blipFill>
        <p:spPr>
          <a:xfrm>
            <a:off x="114480" y="2057400"/>
            <a:ext cx="4457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 еукариота је дисконтинуиране грађе</a:t>
            </a:r>
            <a:br>
              <a:rPr sz="26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12499" r="0" b="0"/>
          <a:stretch/>
        </p:blipFill>
        <p:spPr>
          <a:xfrm>
            <a:off x="1143000" y="1876320"/>
            <a:ext cx="644364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8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типа РНК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лимера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За почета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е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је неопходно учешће транскрипционих факт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5. За време транскрипције и после ње врши се процесинг (посттранскрипциона модификација РН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1"/>
          <a:stretch/>
        </p:blipFill>
        <p:spPr>
          <a:xfrm>
            <a:off x="1098720" y="1506600"/>
            <a:ext cx="694656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Ензим РНК полимера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2424240"/>
            <a:ext cx="48769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ело ензим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е састоји од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четири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субјединице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δ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фактор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је лабавом везом повезан са телом ензима и заједно чине холоензи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Content Placeholder 5" descr=""/>
          <p:cNvPicPr/>
          <p:nvPr/>
        </p:nvPicPr>
        <p:blipFill>
          <a:blip r:embed="rId1"/>
          <a:stretch/>
        </p:blipFill>
        <p:spPr>
          <a:xfrm>
            <a:off x="5105520" y="2347920"/>
            <a:ext cx="3886200" cy="1728720"/>
          </a:xfrm>
          <a:prstGeom prst="rect">
            <a:avLst/>
          </a:prstGeom>
          <a:ln w="0">
            <a:noFill/>
          </a:ln>
        </p:spPr>
      </p:pic>
      <p:pic>
        <p:nvPicPr>
          <p:cNvPr id="218" name="Content Placeholder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019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609480" y="3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240" y="20574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познавање и повезивањ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РНК полимераз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мот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нициј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rcRect l="52709" t="10000" r="5768" b="7150"/>
          <a:stretch/>
        </p:blipFill>
        <p:spPr>
          <a:xfrm>
            <a:off x="4876920" y="1295280"/>
            <a:ext cx="3568680" cy="53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676160" y="796680"/>
            <a:ext cx="4724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Елонгациј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753240" cy="473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9-10-01T13:13:49Z</dcterms:modified>
  <cp:revision>179</cp:revision>
  <dc:subject/>
  <dc:title>2-Humani genom</dc:title>
</cp:coreProperties>
</file>